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whoosh.wav" ContentType="audio/x-wav"/>
  <Override PartName="/ppt/media/image9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D06-7AE8-4C55-8F5E-14BAC93DBB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1CD-2FE3-4BA6-900C-B1205488CE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AE5-2E4E-434A-9B4D-1A52B58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780-7EE3-4C45-9049-4D53FA9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3D9-6031-4D3D-A55B-F732837D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2A6-4C34-4E1B-8962-704E19D3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F47-CC8F-409C-8C92-9BCA9E3E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25A-17D1-427C-A7F7-AA2B9E1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769-A089-4E13-BBCF-0B8044F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1116-058F-4443-9915-F56FCDF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865E-8393-418F-BD70-33A9DD04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3AE3-11A0-4FD4-88AC-E54D596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4921-E4B9-46FC-A98B-4DFD485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32C-3761-4652-A2E2-EAE2338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E1D-320E-46B1-9424-FEB4633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EA8A-BBA2-4571-94D4-B1E8D36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EC4F-D801-4006-AE2C-0648CB95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4C3-A992-43E1-84C1-763D0C70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4B3-E051-43C5-8D59-3B9DE778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A96-0768-4797-AA5C-47320A21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923-8871-4432-80F3-D6E5566E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51A-E753-4913-ADFC-AD1B68B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521-22C1-41DD-8D09-D4F90E11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E08-F78C-42D6-95E8-7CA3507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CDC-8B10-4DB4-B87C-85E799B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3FD-3113-4FA6-87E8-9D31D1A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719-FE62-45EE-8C1B-F6BC8BFAFA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BD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A13-F6D4-462F-9431-C22851AB44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0" lang="it-IT" sz="4000" spc="-1" strike="noStrike">
                <a:solidFill>
                  <a:srgbClr val="a50021"/>
                </a:solidFill>
                <a:latin typeface="Garamond"/>
              </a:rPr>
              <a:t>Giorgetta Bonfiglio-Dosio</a:t>
            </a:r>
            <a:br>
              <a:rPr sz="4000"/>
            </a:br>
            <a:r>
              <a:rPr b="0" lang="it-IT" sz="4000" spc="-1" strike="noStrike">
                <a:solidFill>
                  <a:srgbClr val="a50021"/>
                </a:solidFill>
                <a:latin typeface="Garamond"/>
              </a:rPr>
              <a:t>   </a:t>
            </a:r>
            <a:r>
              <a:rPr b="0" lang="it-IT" sz="2900" spc="-1" strike="noStrike">
                <a:solidFill>
                  <a:srgbClr val="a50021"/>
                </a:solidFill>
                <a:latin typeface="Garamond"/>
              </a:rPr>
              <a:t>(Università degli Studi di Padov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681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ff"/>
                </a:solidFill>
                <a:latin typeface="Garamond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ff"/>
                </a:solidFill>
                <a:latin typeface="Garamond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Piano di conser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Garamond"/>
              </a:rPr>
              <a:t>(Treviso, 2 maggio 20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66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unipd-sigillo"/>
          <p:cNvPicPr/>
          <p:nvPr/>
        </p:nvPicPr>
        <p:blipFill>
          <a:blip r:embed="rId1"/>
          <a:stretch/>
        </p:blipFill>
        <p:spPr>
          <a:xfrm>
            <a:off x="285840" y="285840"/>
            <a:ext cx="119376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7572240" y="214200"/>
          <a:ext cx="1338480" cy="12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240" y="214200"/>
                    <a:ext cx="13384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Segnaposto piè di pagina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BD (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indi: scartare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non solo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er motivi di 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 nella mia cassaforte è finito lo spazio, butto via nel cestino i diamanti che non entrano nella cassaf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egnaposto contenuto 4" descr="cassaforte.gif"/>
          <p:cNvPicPr/>
          <p:nvPr/>
        </p:nvPicPr>
        <p:blipFill>
          <a:blip r:embed="rId1"/>
          <a:stretch/>
        </p:blipFill>
        <p:spPr>
          <a:xfrm>
            <a:off x="214200" y="3683160"/>
            <a:ext cx="2143080" cy="2987640"/>
          </a:xfrm>
          <a:prstGeom prst="rect">
            <a:avLst/>
          </a:prstGeom>
          <a:ln w="0">
            <a:noFill/>
          </a:ln>
        </p:spPr>
      </p:pic>
      <p:pic>
        <p:nvPicPr>
          <p:cNvPr id="123" name="Segnaposto contenuto 5" descr="593624-un-handfull-di-piccolo-taglio-diamanti-sul-velluto-blu.jpg"/>
          <p:cNvPicPr/>
          <p:nvPr/>
        </p:nvPicPr>
        <p:blipFill>
          <a:blip r:embed="rId2"/>
          <a:stretch/>
        </p:blipFill>
        <p:spPr>
          <a:xfrm>
            <a:off x="3429000" y="3643200"/>
            <a:ext cx="20811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6" descr="svuotare cestino.gif"/>
          <p:cNvPicPr/>
          <p:nvPr/>
        </p:nvPicPr>
        <p:blipFill>
          <a:blip r:embed="rId3"/>
          <a:stretch/>
        </p:blipFill>
        <p:spPr>
          <a:xfrm>
            <a:off x="6643800" y="4357800"/>
            <a:ext cx="2212920" cy="2268360"/>
          </a:xfrm>
          <a:prstGeom prst="rect">
            <a:avLst/>
          </a:prstGeom>
          <a:ln w="0">
            <a:noFill/>
          </a:ln>
        </p:spPr>
      </p:pic>
      <p:sp>
        <p:nvSpPr>
          <p:cNvPr id="125" name="Freccia a destra 6"/>
          <p:cNvSpPr/>
          <p:nvPr/>
        </p:nvSpPr>
        <p:spPr>
          <a:xfrm>
            <a:off x="3429000" y="5214960"/>
            <a:ext cx="3357720" cy="285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Studi di neurobiologia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sulla memoria umana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8501040" cy="4857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6000"/>
          </a:bodyPr>
          <a:p>
            <a:pPr lvl="1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Non tutte le informazioni raccolte e trasmesse dagli organi della percezione al cervello ven-gono da quest’ultimo immagazzinati in modo defin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Solo alcuni dati pass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dalla memoria a breve termine, fragile e transi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alla memoria a lungo termine, duratura e stabile &gt;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consolid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4" descr="francesco_mugnai.jpg"/>
          <p:cNvPicPr/>
          <p:nvPr/>
        </p:nvPicPr>
        <p:blipFill>
          <a:blip r:embed="rId1"/>
          <a:stretch/>
        </p:blipFill>
        <p:spPr>
          <a:xfrm>
            <a:off x="0" y="0"/>
            <a:ext cx="2643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3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Garamond"/>
              </a:rPr>
              <a:t>Selezione neurolog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1599840"/>
            <a:ext cx="81867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Il mancato immagazzinamento duraturo e stabile di alcuni dati non è un elemento negativo, anz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capacità di lasciar cadere le informazioni non necess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possibilità di dimenticare fatti, episodi, esperie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sono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elementi posi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magine 3" descr="smileyourcoffeelovesyou.jpg"/>
          <p:cNvPicPr/>
          <p:nvPr/>
        </p:nvPicPr>
        <p:blipFill>
          <a:blip r:embed="rId1"/>
          <a:stretch/>
        </p:blipFill>
        <p:spPr>
          <a:xfrm>
            <a:off x="6429240" y="5000760"/>
            <a:ext cx="19288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6572520" cy="1425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Come avviene 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la selezione neurologica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1999800"/>
            <a:ext cx="830124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Il cervello (sano - si intende -) seleziona le informazioni in base a </a:t>
            </a:r>
            <a:r>
              <a:rPr b="1" lang="it-IT" sz="4800" spc="-1" strike="noStrike">
                <a:solidFill>
                  <a:srgbClr val="000000"/>
                </a:solidFill>
                <a:latin typeface="Garamond"/>
              </a:rPr>
              <a:t>criteri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dettati dall’istinto di sopravvive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ccia circolare a sinistra 3"/>
          <p:cNvSpPr/>
          <p:nvPr/>
        </p:nvSpPr>
        <p:spPr>
          <a:xfrm>
            <a:off x="7715160" y="100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4" descr="ravanelli.JPG"/>
          <p:cNvPicPr/>
          <p:nvPr/>
        </p:nvPicPr>
        <p:blipFill>
          <a:blip r:embed="rId1"/>
          <a:stretch/>
        </p:blipFill>
        <p:spPr>
          <a:xfrm>
            <a:off x="0" y="5143680"/>
            <a:ext cx="9144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222268"/>
                </a:solidFill>
                <a:latin typeface="Garamond"/>
              </a:rPr>
              <a:t>Positività della sele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Si è verificato sperimentalmente che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l’incapacità di dimenticare il superfluo è un ostacolo per l’ap-prendimento e per l’elaborazio-ne del pensiero 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e può portare a seri disturbi psichic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Garamond"/>
              </a:rPr>
              <a:t>Oblio e rimozi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Garamond"/>
              </a:rPr>
              <a:t>Oblio</a:t>
            </a:r>
            <a:r>
              <a:rPr b="0" lang="it-IT" sz="3400" spc="-1" strike="noStrike">
                <a:solidFill>
                  <a:srgbClr val="000000"/>
                </a:solidFill>
                <a:latin typeface="Garamond"/>
              </a:rPr>
              <a:t> = mancata consolidazione della memoria a breve in memoria a lungo termine, determinata dalla valutazione del cervello che ha ritenuto superflua l’infor-mazi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Garamond"/>
              </a:rPr>
              <a:t>Rimozione</a:t>
            </a:r>
            <a:r>
              <a:rPr b="0" lang="it-IT" sz="3400" spc="-1" strike="noStrike">
                <a:solidFill>
                  <a:srgbClr val="000000"/>
                </a:solidFill>
                <a:latin typeface="Garamond"/>
              </a:rPr>
              <a:t> = il ricordo è impresso in maniera definitiva, ma non può essere rievocato e usato in maniera cosciente perché abbinato a ricordi sgradevol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31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La rimozione in archivis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308720" cy="115236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Il documento è stato conservat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11280" y="5805360"/>
            <a:ext cx="8532720" cy="93672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ma l’archivista non è in grado di trov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archivi e cittadino"/>
          <p:cNvPicPr/>
          <p:nvPr/>
        </p:nvPicPr>
        <p:blipFill>
          <a:blip r:embed="rId1"/>
          <a:stretch/>
        </p:blipFill>
        <p:spPr>
          <a:xfrm>
            <a:off x="1908000" y="2349360"/>
            <a:ext cx="4500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Conservazione dinam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I ricordi sono unità dinami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Una rappresentazione originaria viene ristrutturata da eventi e da apprendimenti successi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Le memorie che sopravvivono ai fenomeni di oblio vengono riorganizzate di continuo attraverso le informazioni di rientro, interne o ester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Garamond"/>
              </a:rPr>
              <a:t>Analogie archivistic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Non solo conservazione passiv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concetto di deposito, di accu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Ma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conservazione attiva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concetto di serv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l’archivio non è un depos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è un serviz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925040" cy="92376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Elio Lodolini (1970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90720" y="2852640"/>
            <a:ext cx="73152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Archivio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= complesso delle carte che hanno perduto l’interesse giuridico-amministrativo e sono state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elezionate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come meritevoli di essere conservate per fini di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6880" y="333000"/>
            <a:ext cx="692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Arial"/>
              </a:rPr>
              <a:t>Per orientarci: dove siamo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7146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litamente n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fase di vita dell’archiv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chivio di deposit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brutta denominazione) che di solito viene definita al neg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chivio non più corr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ancora sto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 durata non definita intrinsecamente, ma per esigenze pratiche e gest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.. 40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3" descr="cassonetto_dei_rifiuti-705562.gif"/>
          <p:cNvPicPr/>
          <p:nvPr/>
        </p:nvPicPr>
        <p:blipFill>
          <a:blip r:embed="rId1"/>
          <a:stretch/>
        </p:blipFill>
        <p:spPr>
          <a:xfrm>
            <a:off x="6357960" y="3214800"/>
            <a:ext cx="248436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5" descr="400_F_21183024_xXvJP6kLYHp4MpzqzO0nWzAAb3zSmunZ.jpg"/>
          <p:cNvPicPr/>
          <p:nvPr/>
        </p:nvPicPr>
        <p:blipFill>
          <a:blip r:embed="rId2"/>
          <a:stretch/>
        </p:blipFill>
        <p:spPr>
          <a:xfrm>
            <a:off x="428760" y="285840"/>
            <a:ext cx="12859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Elio Lodolini (1970 e 1990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B: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da scarto a sele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: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scarto = compromesso fra l’esigenza teorica di conservare gli archivi nella loro integrità e i motivi pratici relativi al costo che implicherebbe il soddisfacimento di quella esig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&gt; Lo scarto rompe l’integrità dell’archiv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J. H. Collingridge (</a:t>
            </a:r>
            <a:r>
              <a:rPr b="1" lang="it-IT" sz="5400" spc="-1" strike="noStrike">
                <a:solidFill>
                  <a:srgbClr val="000000"/>
                </a:solidFill>
                <a:latin typeface="Garamond"/>
              </a:rPr>
              <a:t>1956</a:t>
            </a: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The selection of arch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for </a:t>
            </a:r>
            <a:r>
              <a:rPr b="1" lang="it-IT" sz="4800" spc="-1" strike="noStrike">
                <a:solidFill>
                  <a:srgbClr val="000000"/>
                </a:solidFill>
                <a:latin typeface="Garamond"/>
              </a:rPr>
              <a:t>permanent preser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Tradotto i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Gli scarti d’archivio (RA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36232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Paola Carucci (1975)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Garamond"/>
              </a:rPr>
              <a:t>Lo scarto come elemento qualificante delle fonti per la storiografi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700" spc="-1" strike="noStrike">
                <a:solidFill>
                  <a:srgbClr val="000000"/>
                </a:solidFill>
                <a:latin typeface="Garamond"/>
              </a:rPr>
              <a:t>Sotto il profilo storiografico, giuridico e archivistico non è possibile trovare giustificazioni obiettive allo scarto (p. 253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Paola Carucci (197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Garamond"/>
              </a:rPr>
              <a:t>Il </a:t>
            </a:r>
            <a:r>
              <a:rPr b="1" lang="it-IT" sz="3500" spc="-1" strike="noStrike">
                <a:solidFill>
                  <a:srgbClr val="000000"/>
                </a:solidFill>
                <a:latin typeface="Garamond"/>
              </a:rPr>
              <a:t>fondamento dello scarto</a:t>
            </a:r>
            <a:r>
              <a:rPr b="0" lang="it-IT" sz="3500" spc="-1" strike="noStrike">
                <a:solidFill>
                  <a:srgbClr val="000000"/>
                </a:solidFill>
                <a:latin typeface="Garamond"/>
              </a:rPr>
              <a:t> va ricercato invece in quella che può essere considerata una </a:t>
            </a:r>
            <a:r>
              <a:rPr b="1" lang="it-IT" sz="3500" spc="-1" strike="noStrike">
                <a:solidFill>
                  <a:srgbClr val="000000"/>
                </a:solidFill>
                <a:latin typeface="Garamond"/>
              </a:rPr>
              <a:t>legge costante di economicità </a:t>
            </a:r>
            <a:r>
              <a:rPr b="0" lang="it-IT" sz="3500" spc="-1" strike="noStrike">
                <a:solidFill>
                  <a:srgbClr val="000000"/>
                </a:solidFill>
                <a:latin typeface="Garamond"/>
              </a:rPr>
              <a:t>presente in ogni processo evolutivo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Garamond"/>
              </a:rPr>
              <a:t>l’accoglimento cioè di quegli elementi della fase trascorsa, funzionali ed essenziali allo svolgimento della fase in atto e quindi al suo superamento (p. 255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Il dopo Carucci</a:t>
            </a: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4cd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Si parla di scarto in toni più pac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4cd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Non c’è ancora una giustificazione teorica dello sc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4cd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Si incomincia a riflettere sul concetto di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sele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Giuseppe Plessi (1990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Garamond"/>
              </a:rPr>
              <a:t>Lo scarto con l’oculata e ponderata scelta delle carte da conservarsi e di quelle da eliminarsi deve costituire il </a:t>
            </a:r>
            <a:r>
              <a:rPr b="1" lang="it-IT" sz="3400" spc="-1" strike="noStrike">
                <a:solidFill>
                  <a:srgbClr val="000000"/>
                </a:solidFill>
                <a:latin typeface="Garamond"/>
              </a:rPr>
              <a:t>primo ripensa-mento in retrospettiva</a:t>
            </a:r>
            <a:r>
              <a:rPr b="0" lang="it-IT" sz="3400" spc="-1" strike="noStrike">
                <a:solidFill>
                  <a:srgbClr val="000000"/>
                </a:solidFill>
                <a:latin typeface="Garamond"/>
              </a:rPr>
              <a:t> dell’azione ammini-strativo-giuridica o pratica espletata, condotto sulla documentazione che ne resta, in modo che i nessi originari siano posti in rilievo attraverso l’enucleazione della congerie di carte prodotte talvolta a vuoto e più spesso superfluam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Isabella Zanni Rosiello (19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Che la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distruzione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faccia parte della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conservazione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è, al di là della paradossale e sconcertante contrad-dizione tra i due termini, elemento costante della tradizione archivistica e dell’esercizio del mestiere dell’archi-vista (p. 99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93960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Garamond"/>
              </a:rPr>
              <a:t>Luciana Duranti (199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 fontScale="86000"/>
          </a:bodyPr>
          <a:p>
            <a:pPr marL="29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La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valutazione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(The appraisal) è una componente indispensabile e necessaria della scienza archivistica, un momento fondamentale per consegnare al futuro archivi di dimensioni gesti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Anche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InterPARES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include la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selezione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fra le attività indispensabili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per la conser-vazione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degli archivi digit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elezionare per conserv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0040" y="1356840"/>
            <a:ext cx="77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la selezione è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operazione critica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condotta dal produttore d’archiv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all’insegna del criterio di economicità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(“intellettuale” e archivistic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nella seconda fase di vita dell’archivio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(che è ancora gestito dal produtto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magine 3" descr="300px-Fondos_archivo.jpg"/>
          <p:cNvPicPr/>
          <p:nvPr/>
        </p:nvPicPr>
        <p:blipFill>
          <a:blip r:embed="rId1"/>
          <a:stretch/>
        </p:blipFill>
        <p:spPr>
          <a:xfrm>
            <a:off x="428760" y="5126040"/>
            <a:ext cx="8358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Antonio Romiti (1992-199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Con l’utilizzazione del termine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selezione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 non dovrebbe proporsi una assimilazione né allo scarto né alla eliminazion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ma dovrebbe realizzarsi una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ope-razione complessa</a:t>
            </a: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 che </a:t>
            </a: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precede l’elimin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Definizione di archivio di depos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solidFill>
            <a:srgbClr val="e5fff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«fase dell’archivio nella quale le sedimentazioni documentarie sono arrivate ad un assetto stabile, in quanto le attività che le hanno prodotte sono giunte a conclusione, e nella quale il soggetto produttore procede a una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razionalizzazione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selettiva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dei documenti,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mantenendo ed evi-denziando le aggregazioni originarie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costituite nella fase formativa ed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eliminando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la docu-mentazione di carattere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strumentale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tran-seunte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(quelli che Raffaele De Felice definisce “elementi caduchi”), in modo da consolidare senza alterazioni la propria memoria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974520"/>
          </a:xfrm>
          <a:prstGeom prst="rect">
            <a:avLst/>
          </a:prstGeom>
          <a:solidFill>
            <a:srgbClr val="dffe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Selezione: scarto e conser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9360" y="3733200"/>
            <a:ext cx="25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be0e16"/>
                </a:solidFill>
                <a:latin typeface="Arial"/>
              </a:rPr>
              <a:t>Sele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3119400" y="3352320"/>
            <a:ext cx="1909800" cy="8226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3119400" y="4175280"/>
            <a:ext cx="1909800" cy="473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47200" y="4266360"/>
            <a:ext cx="37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be0e16"/>
                </a:solidFill>
                <a:latin typeface="Arial"/>
              </a:rPr>
              <a:t>Conserv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184360" y="289476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be0e16"/>
                </a:solidFill>
                <a:latin typeface="Arial"/>
              </a:rPr>
              <a:t>Sc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343400" y="1905120"/>
            <a:ext cx="0" cy="4038480"/>
          </a:xfrm>
          <a:prstGeom prst="line">
            <a:avLst/>
          </a:prstGeom>
          <a:ln w="38160">
            <a:solidFill>
              <a:srgbClr val="be0e1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490760" y="21466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471720" y="2146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Eff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85440" y="35042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00"/>
                </a:solidFill>
                <a:latin typeface="Arial"/>
              </a:rPr>
              <a:t>D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184360" y="4786560"/>
            <a:ext cx="29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00"/>
                </a:solidFill>
                <a:latin typeface="Arial"/>
              </a:rPr>
              <a:t>Archivio storico </a:t>
            </a:r>
            <a:br>
              <a:rPr sz="2400"/>
            </a:br>
            <a:r>
              <a:rPr b="0" i="1" lang="it-IT" sz="2400" spc="-1" strike="noStrike">
                <a:solidFill>
                  <a:srgbClr val="006600"/>
                </a:solidFill>
                <a:latin typeface="Arial"/>
              </a:rPr>
              <a:t>(documenta sel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909720" y="4175280"/>
            <a:ext cx="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Le riflessioni teoriche e 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Garamond"/>
              </a:rPr>
              <a:t>     le ricadute norma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7345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Dal concetto [negativo] di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scarto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(eliminare magari solo perché non c’è più pos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2560" y="4581360"/>
            <a:ext cx="7705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al concetto [ positivo] di </a:t>
            </a: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selezione </a:t>
            </a: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(forma di manutenzione dell’archivio: via le scori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24000" y="2637000"/>
            <a:ext cx="412560" cy="2415960"/>
          </a:xfrm>
          <a:prstGeom prst="downArrow">
            <a:avLst>
              <a:gd name="adj1" fmla="val 50000"/>
              <a:gd name="adj2" fmla="val 50373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826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be0e16"/>
                </a:solidFill>
                <a:latin typeface="Arial"/>
              </a:rPr>
              <a:t>DPR 28 dic. 2000, n. 445 - art. 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1.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Almeno una volta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ogni anno il responsabile del servizio per la gestione dei flussi documentali e degli archivi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provvede a trasferire fascicoli e serie documentarie relativi a procedimenti conclusi in un apposito archivio di deposito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costituito presso ciascuna amministra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2. Il trasferimento deve essere attuato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rispettando l’organizzazione che i fascicoli e le serie avevano nell’archivio corrente.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3. Il responsabile del servizio per la gestione dei flussi documentali e degli archivi deve formare e conservare un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elenco dei fascicoli e delle serie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trasferite nell’archivio di depos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361800"/>
            <a:ext cx="763272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e0e16"/>
                </a:solidFill>
                <a:latin typeface="Garamond"/>
              </a:rPr>
              <a:t>DPR 28 dic. 2000, n. 445 - art. 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864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Il servizio per la gestione dei flussi documentali e degli archivi elabora ed aggiorna il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Garamond"/>
              </a:rPr>
              <a:t>piano di conservazione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degli archivi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Garamond"/>
              </a:rPr>
              <a:t>integrato con il sistema di classificazione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, per la definizione dei criteri di organizzazione dell’archivio, d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Garamond"/>
              </a:rPr>
              <a:t>selezione periodica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e di conservazione permanente dei documenti, nel rispetto nel rispetto delle vigenti disposizioni contenute in materia di tutela dei beni culturali e successive modificazioni ed integra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57680" y="404280"/>
            <a:ext cx="5962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be0e16"/>
                </a:solidFill>
                <a:latin typeface="Arial"/>
              </a:rPr>
              <a:t>La professionalità archiv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2071800"/>
            <a:ext cx="81151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-579600">
              <a:lnSpc>
                <a:spcPct val="80000"/>
              </a:lnSpc>
              <a:spcBef>
                <a:spcPts val="774"/>
              </a:spcBef>
              <a:buClr>
                <a:srgbClr val="be0e1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’archivista deve inquadrare il problema della selezione in un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contesto di organizzazione archivist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774"/>
              </a:spcBef>
              <a:buClr>
                <a:srgbClr val="be0e1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Non si deve “scartare”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solo per problemi di spaz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774"/>
              </a:spcBef>
              <a:buClr>
                <a:srgbClr val="be0e1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Non ha senso  “scartare” senza procedere alla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riorganizzazione del servizio di gestione document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774"/>
              </a:spcBef>
              <a:buClr>
                <a:srgbClr val="be0e1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a selezione è possibile solo in un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archivio ordina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magine 6" descr="formazione.gif"/>
          <p:cNvPicPr/>
          <p:nvPr/>
        </p:nvPicPr>
        <p:blipFill>
          <a:blip r:embed="rId1"/>
          <a:stretch/>
        </p:blipFill>
        <p:spPr>
          <a:xfrm>
            <a:off x="32400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57280" y="285480"/>
            <a:ext cx="678672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Garamond"/>
              </a:rPr>
              <a:t>I tempi della sele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400" y="1856880"/>
            <a:ext cx="8258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&lt; Romiti (1992-1993) distingu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825"/>
              </a:spcBef>
              <a:buClr>
                <a:srgbClr val="ed7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carto</a:t>
            </a: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differito</a:t>
            </a: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(effettuato al momento del passaggio dei documenti dall’archivio di depo-sito a quello storico, anche da persone diverse dal produttor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825"/>
              </a:spcBef>
              <a:buClr>
                <a:srgbClr val="ed7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carto in itinere</a:t>
            </a: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(effettuato durante la formazione dell’archivio dal produttor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825"/>
              </a:spcBef>
              <a:buClr>
                <a:srgbClr val="ed7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carto</a:t>
            </a: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preordinato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300" spc="-1" strike="noStrike">
                <a:solidFill>
                  <a:srgbClr val="000000"/>
                </a:solidFill>
                <a:latin typeface="Garamond"/>
              </a:rPr>
              <a:t>(deciso prima della formazione dell’archivio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979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munque si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9680" y="1428480"/>
            <a:ext cx="8186760" cy="507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rve sempre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iano di conserv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he ind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li documenti/fascicoli vanno conservati permanent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li documenti/fascicoli vanno conservati per un certo periodo, che è indicato con riferimento alla normativa generale e spe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li documenti/fascicoli possono essere scar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unti su cui riflett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00" y="1356840"/>
            <a:ext cx="8258040" cy="5000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pproccio è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osi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si parla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serv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scopo esistenziale dell’archiv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ncetto di conservazione è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mplific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soprattutto per quanto riguarda il digit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basta più l’ammasso in un depo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e 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erifica costante che i documenti siano inalterati e leggibili/us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e predisporre un piano di conservazi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°: deve essere raccordato al piano di classificazione &gt; problema: il piano di classificazione è astratto, mentre lo scarto riguarda documenti concr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nca l’anello di congiun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il piano di organizzazione dei documenti in aggregazioni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magine 4" descr="raccordo-di-congiunzione~29654216.jpg"/>
          <p:cNvPicPr/>
          <p:nvPr/>
        </p:nvPicPr>
        <p:blipFill>
          <a:blip r:embed="rId1"/>
          <a:stretch/>
        </p:blipFill>
        <p:spPr>
          <a:xfrm>
            <a:off x="2786040" y="4357800"/>
            <a:ext cx="5429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’organizzazione dei fasci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840" y="1571760"/>
            <a:ext cx="8400960" cy="49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ponde al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gica organizzativ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l’entità istituzionali e/o amministrative nella conduzione delle singole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può essere condizionata da scelte individuali arbitrarie e conting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strumento gestionale e organizzativo previsto dal CAD, rispondente alle esigenze del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conclusioni di InterPARES sostengono la necessità di “fissare” l’appartenenza e la posizione di un documento in un fasci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archivio di deposito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 ancora presso il produt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ima </a:t>
            </a:r>
            <a:r>
              <a:rPr b="1" lang="it-IT" sz="4000" spc="-1" strike="noStrike">
                <a:solidFill>
                  <a:srgbClr val="990033"/>
                </a:solidFill>
                <a:latin typeface="Arial"/>
              </a:rPr>
              <a:t>concentrazion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0033"/>
                </a:solidFill>
                <a:latin typeface="Arial"/>
              </a:rPr>
              <a:t>Esigenze logistich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spazi e strut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0033"/>
                </a:solidFill>
                <a:latin typeface="Arial"/>
              </a:rPr>
              <a:t>Esigenze gestion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passaggio di responsabilità; selezione e sc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694836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940360" y="170028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iano di fascico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857160"/>
            <a:ext cx="8258040" cy="5786640"/>
          </a:xfrm>
          <a:prstGeom prst="rect">
            <a:avLst/>
          </a:prstGeom>
          <a:solidFill>
            <a:srgbClr val="ffd88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isi de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cedimen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mminist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el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 singolo proce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el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ipolog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documento da produrre in ciascun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el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 documento da produrre in ciascun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bilire 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sponsabilità per la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bilire che tipo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ggregazio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ervono per organizzare i documenti prodotti in ciascun proce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re 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sponsabilità per l’organizzazione e la conservazion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ciascuna aggreg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725400"/>
          </a:xfrm>
          <a:prstGeom prst="rect">
            <a:avLst/>
          </a:prstGeom>
          <a:solidFill>
            <a:srgbClr val="ffd88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Un 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4200" y="114264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t. III Risorse Umane, classe 1. Concorsi, selezioni, collo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iteri generali e normativa per il reclutamento del personale: un fasc. con eventuali sottofasci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dimenti per il reclutamento del personale: un fasc. per ciascun procedimento (fasc. per affare), con i seguenti sottofascic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ndo e manif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egati alle domande (ove previsti dal b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ve d’esame sc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pie bando restituite al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2960" y="2142720"/>
            <a:ext cx="8043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urricul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viati per richieste di assunzione: serie organizzata cronologicamente o secondo criteri scelti dal singolo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mande di assunzione pervenute senza indizione di concorso o selezione: serie organizzata cronologicamente o secondo criteri scelti dal singolo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itolo V. Affari legal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3840" y="1071720"/>
            <a:ext cx="8472600" cy="557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z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scicoli di causa: un fasc. per ciascuna causa (fasc. per procedimento). Ciascun Comune può suddividere, a seconda delle esigenze, la serie dei fasci-coli di causa in sottoserie (cause civili, cause amministra-tive, cause penali, cause tributarie). Ciascun fascicolo può articolarsi in sottofascicoli (fasi della caus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sponsabilità civile e patrimoniale verso terzi; assicu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atti assicurativi: un fasc. per contratto (fasc. per  aff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e e pratiche di risarcimento: un fasc. per ciascuna richiesta (fasc. per aff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eri e consul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eri e consulenze: un fasc. per ciascun af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itolo VII. Servizi alla pers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7120" y="1714680"/>
            <a:ext cx="8329680" cy="441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asse 6. Attività ed eventi cultu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ttività ordinarie annuali (ad esempio, informazioni bibliografiche per la Biblioteca civica): un fasc. annuale per ciascuna attività, eventualmente articolato in sottofascicoli mens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venti culturali: un fasc. per ciascun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este civili e/o religiose: un fasc. per inizi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ative culturali: un fasc. per ciascuna inizi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titi di beni culturali: un fasc. per ciascun af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itolo X. Tutela della sa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400" y="1357200"/>
            <a:ext cx="8258040" cy="514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asse 1. Salute e igiene 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mergenze sanitarie: un fasc. per ciascun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sure di igiene pubblica: un fasc. per ciascun af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venti di derattizzazione, dezanzarizzazione etc.: un fasc. per ciascun 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ttamenti fitosanitari e di disinfestazione: un fasc. per ciascun 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torizzazioni sanitarie: repertorio annu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scicoli dei richiedenti autorizzazioni sanitarie: un fasc. per ciascuna persona/di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essioni di agibilità: repertorio ann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scicoli dei richiedenti l’agibilità: un fasc. per ciascun richi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equenziale è il piano di conser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1143000"/>
            <a:ext cx="4281480" cy="550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teri generali e normativa per il reclutamento del personale: un fasc. con eventuali sottofasc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dimenti per il reclutamento del personale: un fasc. per ciascun procedimento (fasc. per affare), con i seguenti sottofascico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ndo e manif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egati alle domande (ove previsti dal ba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b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e d’e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ie bando restituite al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714920" y="1143000"/>
            <a:ext cx="4214880" cy="5500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anno dopo la scadenza dei termini per i ric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restituire dopo la scadenza dei termini per i ricorsi agli interes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anno dopo la scadenza dei termini per i ric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anno dopo la scadenza dei termini per i ric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urricu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viati per richieste di assu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mande di assunzione pervenute senza indizione di concorso o sel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itolo V. Affari leg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400" y="1599840"/>
            <a:ext cx="4066920" cy="4971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scicoli di ca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---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ratti assicu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hieste e pratiche di risar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-----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eri e consul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3280" y="1599840"/>
            <a:ext cx="4043520" cy="4971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ncentrare quelli presso gli studi professionali es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 anni d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0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----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man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itolo VII. Servizi alla persona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lasse 6. Attività ed eventi cultur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5480" y="1599840"/>
            <a:ext cx="4143240" cy="4971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ordinarie annuali: un fasc. per attività e per peri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venti culturali: un fasc. per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este civili e/o religiose: un fasc. per iniz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tive culturali: un fasc. per iniz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titi di beni culturali: un fasc. per af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00360" y="1599840"/>
            <a:ext cx="4429080" cy="4971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10 an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manente, previo sfoltimen-to del carteggio temporaneo e strumentale dopo 10 an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manente, previo sfoltimen-to del carteggio temporaneo e strumentale dopo 10 an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manente, previo sfoltimen-to del carteggio temporaneo e strumentale dopo 10 an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e attività archivist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599840"/>
            <a:ext cx="8218440" cy="47084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quisire 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centr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l materiale in una struttura adegu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are e realizzare 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serv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ia fisica sia intellettuale (acquisire anche i metadati e gli strumenti descrittivi prodotti nella prima f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lezionare il materiale da destinare alla conservazione permanente o al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itolo X. Tutela della salut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asse 1. Salute e igiene 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3840" y="1356840"/>
            <a:ext cx="5715000" cy="5286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mergenze sanitarie: un fasc. per ciascun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sure di igiene pubblica: un fasc. per ciascun af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venti di derattizzazione, dezanzarizzazione etc.: un fasc. per ciascun 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ttamenti fitosanitari e di disinfestazione: un fasc. per ciascun 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torizzazioni sanitarie: repertorio annu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scicoli dei richiedenti autorizzazioni sanitarie: un fasc. per ciascuna persona/di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essioni di agibilità: repertorio ann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scicoli dei richiedenti l’agibilità: un fasc. per ciascun richi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143760" y="1356840"/>
            <a:ext cx="2543040" cy="5286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a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a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 anni dalla cessazione dell’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cedure e precau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560" y="1285560"/>
            <a:ext cx="3143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nvio alla lezione del 9 magg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torizz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lenco di sc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86080" y="1071360"/>
            <a:ext cx="5400720" cy="550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hiamo quanto più volte raccomandato nell’appli-cazione dei massimari di scar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erificare sempre se l’indicazione di massima va bene per il sistema spec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rvenire sempre criticamente, tenendo presenti gli obiettivi della conservazione respon-sabile e “attrezzata” professio-n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ccia in giù 5"/>
          <p:cNvSpPr/>
          <p:nvPr/>
        </p:nvSpPr>
        <p:spPr>
          <a:xfrm>
            <a:off x="1428840" y="1000080"/>
            <a:ext cx="484200" cy="12636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ccia circolare a sinistra 7"/>
          <p:cNvSpPr/>
          <p:nvPr/>
        </p:nvSpPr>
        <p:spPr>
          <a:xfrm>
            <a:off x="7858080" y="6429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Criteri di massima per lo scart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6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In linea di massima si possono scartare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p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urché non contengano annotazioni ammini-strative o visti essenziali per ricostruire il procedimento nella sua correttezza e nella sua completezza: in fase di progettazione del sistema individuare originale e copie; studiare formular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i analitic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cui si conservino però docu-menti riassuntivi: è il caso dei documenti contabili analitici, che poi confluiscono in documenti contabili sintetici: in fase di progettazione si può predisporre l’eliminazione program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i strumentali e transito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d esempio, le ricevute di pagamento dei servizi a richiesta; le domande di congedo, che non comportino conseguenze sulla carriera del 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ie che l’ente possiede per conoscenz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d esempio, il secondo esemplare del 740 consegnato ai Comu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0" y="928800"/>
            <a:ext cx="1571760" cy="306360"/>
          </a:xfrm>
          <a:prstGeom prst="pie">
            <a:avLst/>
          </a:prstGeom>
          <a:solidFill>
            <a:srgbClr val="f3a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11440"/>
          </a:xfrm>
          <a:prstGeom prst="rect">
            <a:avLst/>
          </a:prstGeom>
          <a:solidFill>
            <a:srgbClr val="f3ab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ono essere conservati permanente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25804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repertori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(ad esempio, i registri di proto-collo) e i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pubblici registri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(ad esempio, i re-gistri di stato civil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documenti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considerati 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vitali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 (quelli che, secondo la definizione di Luciana Duranti, in caso di disastro, sono necessari a ricreare lo stato giuridico dell’ente produttore e la sua situazione legale e finanziaria, a garantire i di­ritti dei dipendenti e dei cittadini, a soddisfare i suoi obblighi e a proteggere i suoi interessi estern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2540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Un’operazione strategica: lo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foltime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400960" cy="538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estrazione ed eliminazione fisica di alcuni documenti da un fascicolo e da una serie.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Ad esempio, dalla serie “Concorsi” si estraggono e si eliminano le domande dei candidati, una volta trascorsi i termini prescrizionali per i ricorsi e solo se nel verbale della commissione esaminatrice compare menzione della regolarità delle operazioni connesse all’accettazione delle domande regolarmente perven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it-IT" sz="3200" spc="-1" strike="noStrike">
                <a:solidFill>
                  <a:srgbClr val="000000"/>
                </a:solidFill>
                <a:latin typeface="Garamond"/>
              </a:rPr>
              <a:t>Addestrare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i responsabili dei proced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ccia a destra 4"/>
          <p:cNvSpPr/>
          <p:nvPr/>
        </p:nvSpPr>
        <p:spPr>
          <a:xfrm>
            <a:off x="0" y="5786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clusioni fi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6760" y="1071360"/>
            <a:ext cx="85726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iano di conservazio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uno degli strumenti per gestire l’archivio nella sua complessità, tenendo conto dei molteplici leg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usato insieme agli altri stru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e essere definito tenendo presente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o archivistic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gl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e esser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rumento condivis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’interno del sistema: manuale di 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rv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 pianificare la conser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Arial"/>
              </a:rPr>
              <a:t>Pianificare la conser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57120" y="135684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lezion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 documenti degni di conservazione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art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 documenti diventati superf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gliorare la qualità della conservazion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dei servizi archivis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ire un sistema di gestione documentale adeguato alle esigenze, anche dal punto di vista tecnologico, ma non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magine 3" descr="ComeguadagnareSoldiOnline_page1_image11.jpg"/>
          <p:cNvPicPr/>
          <p:nvPr/>
        </p:nvPicPr>
        <p:blipFill>
          <a:blip r:embed="rId1"/>
          <a:stretch/>
        </p:blipFill>
        <p:spPr>
          <a:xfrm>
            <a:off x="6858000" y="1214280"/>
            <a:ext cx="1949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01040" cy="868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ncora una volta: buon lav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712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 speriamo che non ci scarti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Immagine 3" descr="lavoro.jpg"/>
          <p:cNvPicPr/>
          <p:nvPr/>
        </p:nvPicPr>
        <p:blipFill>
          <a:blip r:embed="rId1"/>
          <a:stretch/>
        </p:blipFill>
        <p:spPr>
          <a:xfrm>
            <a:off x="2143080" y="1857240"/>
            <a:ext cx="46594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cdc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Conservazione fisica e intellettu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599840"/>
            <a:ext cx="81151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allestimento della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arredi e attrezz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collocazione del materiale archivi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conservazione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e restauro dei suppor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realizzazione degli 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strumenti archivistici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per l’accesso interno ed es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Garamond"/>
              </a:rPr>
              <a:t>garanzie di imparzialità per l’</a:t>
            </a:r>
            <a:r>
              <a:rPr b="1" lang="it-IT" sz="3600" spc="-1" strike="noStrike">
                <a:solidFill>
                  <a:srgbClr val="000000"/>
                </a:solidFill>
                <a:latin typeface="Garamond"/>
              </a:rPr>
              <a:t>ac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35319"/>
          <p:cNvPicPr/>
          <p:nvPr/>
        </p:nvPicPr>
        <p:blipFill>
          <a:blip r:embed="rId1"/>
          <a:stretch/>
        </p:blipFill>
        <p:spPr>
          <a:xfrm>
            <a:off x="7164360" y="1268280"/>
            <a:ext cx="16239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’era una volta … in It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parl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ar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ssimario di sc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concepiva lo scar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inevitabile necessità dettata da esigenze pratiche (Eugenio Casanova: 19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Strappo all’unitarietà dell’archivio come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</a:rPr>
              <a:t>universitas rerum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(Giorgio Cencetti: 19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manda sponta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ccia a destra 3"/>
          <p:cNvSpPr/>
          <p:nvPr/>
        </p:nvSpPr>
        <p:spPr>
          <a:xfrm>
            <a:off x="714240" y="6072120"/>
            <a:ext cx="350064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magine 4" descr="favole.gif"/>
          <p:cNvPicPr/>
          <p:nvPr/>
        </p:nvPicPr>
        <p:blipFill>
          <a:blip r:embed="rId1"/>
          <a:stretch/>
        </p:blipFill>
        <p:spPr>
          <a:xfrm>
            <a:off x="285840" y="0"/>
            <a:ext cx="16095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È proprio necessario lo sca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3840" y="1356840"/>
            <a:ext cx="8472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 allora, se ci sono tutte queste perplessità, io conservo tut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4" descr="accumulo_compulsivo1.jpg"/>
          <p:cNvPicPr/>
          <p:nvPr/>
        </p:nvPicPr>
        <p:blipFill>
          <a:blip r:embed="rId1"/>
          <a:stretch/>
        </p:blipFill>
        <p:spPr>
          <a:xfrm>
            <a:off x="1857240" y="2533680"/>
            <a:ext cx="5643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7480" y="274680"/>
            <a:ext cx="3714840" cy="797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1680" y="1571400"/>
            <a:ext cx="8215200" cy="5072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nservazione indiscriminata è una patologia: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ccumulo compul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sele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è una forma di conser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che se di solito non c’è bisogno di insistere molto per convincere i produttori a scartare, ma serve convincerli a farlo bene all’interno di un’ottica di sistema (gestione integrata dell’archiv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atología infantil"/>
          <p:cNvPicPr/>
          <p:nvPr/>
        </p:nvPicPr>
        <p:blipFill>
          <a:blip r:embed="rId1"/>
          <a:stretch/>
        </p:blipFill>
        <p:spPr>
          <a:xfrm>
            <a:off x="428760" y="0"/>
            <a:ext cx="19285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40:08Z</dcterms:created>
  <dc:creator>Bonfiglio Dosio</dc:creator>
  <dc:description/>
  <dc:language>en-US</dc:language>
  <cp:lastModifiedBy>PCutente</cp:lastModifiedBy>
  <dcterms:modified xsi:type="dcterms:W3CDTF">2013-04-30T18:04:00Z</dcterms:modified>
  <cp:revision>75</cp:revision>
  <dc:subject/>
  <dc:title>Giorgetta Bonfiglio-Dosio (Università degli studi di Padova) </dc:title>
</cp:coreProperties>
</file>